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582D-9690-49E6-88A6-9CF56D5A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DE4-CABE-4AE9-A32A-99B20161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83B9-EE2C-491F-B1F6-E5A73AD0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324-01B2-4CF7-9BBC-349C6A27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D291-5EF3-4267-9B4B-AF9DC835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5023-7BC0-4E9B-B434-580F1CC8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F4F6-1969-4449-AB14-0C72A0CC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CF50-53D4-4D9D-8234-2CC17112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4419-CACB-425A-960F-DF719C0C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82C4-3357-4FF2-8E3E-BE5E3049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C57E-018F-4BB4-A547-9AA0E8E7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C3B6-88E8-4FAF-AC76-E1D4348C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E03A-ADAC-4AB6-B13C-564D36D8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EA4B-73D2-4D85-8AFA-E6A4AA55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EC4C-737A-4339-BDE2-DE133FC5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9569-989E-4D6B-B308-B391002C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48C8-82CC-415C-AF66-CCBCA83F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C6C2-0FF8-489B-972C-DF4D8A78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7275-ADD4-424B-8F11-D95AB4DC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11AC-3973-4A76-917A-DC148BC2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0A76-4FD4-4011-BC60-CD718704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1089-1AE9-465A-A5F8-0B3CE160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87EC-9378-4B2A-B424-7D272AF8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7C61-FA37-4607-8845-B03DF56C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9937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任意多边形 39938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任意多边形 39939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任意多边形 39940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圆角矩形 3994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D19A-D637-42F2-9AAD-ACECE83162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40961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任意多边形 40962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任意多边形 40963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任意多边形 40964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圆角矩形 4096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7BED-C2A6-41AA-8786-EAB550602575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六章   保险投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实物资产投资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最主要的是不动产投资，也包括一些机械设备等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我国保险投资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018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年《保险资金运用管理办法》明确规定保险资金运用限于下列形式： （一）银行存款； （二）买卖债券、股票、证券投资基金份额等有价证券； （三）投资不动产； （四）投资股权； （五）国务院规定的其他资金运用形式。 保险资金从事境外投资的，应当符合中国保监会、中国人民银行和国家外汇管理局的相关规定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第四节 保险投资主体模式的选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公司内设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委托专业的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专业化保险资产管理公司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保险投资风险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政府对保险业投资风险的监管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对保险投资范围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对保险投资比例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对投资资产与负债的配比关系的限制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对金融衍生工具的使用限制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公司对投资风险的管理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制定合理的投资策略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资产分配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投资组合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资产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析保险投资的资金来源和性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一般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特殊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我国保险投资的主要方式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监管机构应从哪些方面加强对保险公司投资风险的管理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应该如何制定保险投资策略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何选择证券组合可以降低非系统性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利率免疫技术？保险公司如何运用利率免疫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术防范债券投资的利率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投资的资金来源与性质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保险投资资金的来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自有资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本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积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负债资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寿险未到期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赔款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储金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存入分保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责任准备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资金的性质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负债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稳定性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性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保险投资的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投资的一般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收益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流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的特殊条件约束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称性条件约束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替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转移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衡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第三节   保险投资的形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金融资产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债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债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贷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股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cp:keywords/>
  <dc:language>en-US</dc:language>
  <cp:lastModifiedBy>苏菲的小猫</cp:lastModifiedBy>
  <dcterms:modified xsi:type="dcterms:W3CDTF">2020-05-25T05:50:13Z</dcterms:modified>
  <cp:revision>23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4</vt:lpwstr>
  </property>
</Properties>
</file>